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483-BF20-4DB9-9004-B7183882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3AC-490F-4EE7-9D2B-3028C8A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1071-CA65-4F87-AC2F-811F32D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CACC-ADE2-42DB-980D-19DEC80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F9B2-162D-4E84-9AAA-7D17D54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1B4A7-5BF7-4FB7-BC76-04CC78B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C3C7-186C-4200-A371-CC2B5D3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AF79-3F3B-4235-9D9B-CB2BA54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C69E-7B50-4F1B-985F-8FDFC84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B3345-7E24-434A-B106-BF59104A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ACD7D-91F5-439C-A59E-329CE38E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08051-DDAF-464A-A290-92689D1D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9A6-DAE9-4C51-B0B7-2C90C98B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56C1F-AF9C-4EBF-8E53-1B69DA9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B5D44-05A9-4F30-A9EF-39048722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0FB84-3072-4F75-8565-EB42ACA0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3F2D7-3503-4A73-ABC6-724C0AD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019C6-135D-4592-854D-B9DACF8D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114B4-36C1-418C-9EB3-7086376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DDFC2-200B-4A0D-B10F-FE2CF8C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2832-9640-4C00-B2AD-C07CCE0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49F17-77AD-4E95-9621-B2352BA6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1778-C45A-4D75-B97E-D3A3E29F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0AF-B65D-4332-AC23-355AC86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43B35-A3E3-4F0C-AB97-BD453F82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7B8B5-AC6E-4CEA-839F-DE5DF7AA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5BED1-937B-43A3-8DC0-C071DB58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D040-9DF7-4115-86AF-23EFF3B2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D0C74-5A45-4CFC-8F00-9571C91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9D7D-E7F0-46B2-8E79-4E0D996F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D0778-F56A-4014-8632-6209153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DEE00-E06A-4141-8895-2008646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5E48-5423-4F8D-B47F-91A1A9AB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F68E7-BB47-440D-A73C-FD089EF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D216-9833-4657-BC62-CF7B8CC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6C8C-E7BE-4C4E-87C8-544A286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ED93B-0B9C-4F72-94A5-E314DFF5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56B9E-7431-4708-8729-73F73EC2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8C1-587B-481A-B947-D710E83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28E0-0A75-4C59-B62F-249D97A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7FE-88FF-4A4E-AF6B-C12281B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F400-63E0-4F0A-8A22-1A31E79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54A-54F4-4C53-ABFC-C62A568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75EC-E5F7-4CE0-8AE3-FCA8F3F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06C-7C01-4050-9E7D-DFCE6ED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BEB-B1C4-4E58-85B6-DAAA212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A9D-9933-4388-825B-DC47482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B1BC-9978-4CBF-A37F-B404A20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7EE2-D139-44F5-8277-416B6B0C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D0F-9375-4135-8DFD-9096199F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4447-307E-4B95-89CF-4BA10ED0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4BAB-6173-4B88-AC6F-8A990F5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235D-512F-40FC-97CE-47835A1C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C096-648D-428B-8F4E-44B1377A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78DD-C6E8-4EF1-99E0-BF5E40A5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61D-F27B-4969-811D-4FD18D39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4819-7715-497E-874D-CE97E6F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712A-9E44-458E-86B7-09E96EA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813D-8308-4E10-B7D0-C45197B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73E7-B0E2-440B-8C69-3F060C5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3552-F9C2-40E2-9E2D-DEEC3B4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61C1-EF22-4638-995E-EC10C004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5D0C-3578-42AB-8A8D-E814353F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0C60-B333-4F10-952A-42539692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C0C0-AC51-4AB6-9B3A-2824D98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3472-2A7A-468B-9305-14E4AEEB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46C-4990-4136-986D-DDEAC381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9196-EC9C-45E7-BB5F-A60C4B4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B9AD-CA88-4282-AF96-462A7EC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D0F9-21AB-4255-9ADC-B9BBAA93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638F-EBC8-4EFE-968E-9646482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6798-2B88-4730-BCF7-741D1BB3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9A0B-3936-42A8-B53F-5AB7C3A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F9B8-58EF-42DC-9263-32B362E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783A-EC29-445B-B673-BCE27CA2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388A-A6DF-4970-A51B-2D438CD7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716E-1A12-43DE-A498-FF13BB9A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62E-9DE7-425C-A988-1755809C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AAEA-BB91-49EB-84D5-2387BFF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4D34-BEB0-469D-8704-0ED44A46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73C2-FF21-42E4-80C4-9D01C82B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2704-7B30-49CF-A5D8-0DABC34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35B0-E899-4B1F-94B6-4EF91019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2118C-BB47-4640-9273-E117D75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291B-87CA-4CC6-8236-BB8D07B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C7283-AA2D-41DB-8E5A-05FFAD43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A3F0-3590-4CD3-9D2A-E07A994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6E0E-EF88-4ADA-88EF-1DDA2EA5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01C-B7F3-47C8-927B-5EDDA3F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74DA-DBBD-4A65-9F5F-5EFCC525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79E4-A6BE-47D8-AAA6-01A12C9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09F8-8D6F-47AF-99B6-552E881F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9BF2-953B-4F67-9BE0-7E3F3C93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BCB4-F037-4B37-A1E6-75C1F223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DB9A-DE85-481C-BAA2-1B5074E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91F9-2A44-47CC-B42C-EA6A217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46D6-DC5E-4453-8DF4-F6C61F7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D1BD-6ACD-4E61-995C-DA712FE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0C098-7B0C-435A-A4BA-6DF0B0D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BB6-CD6C-4172-BA2A-276943D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A549-82AD-46A2-BA7A-C1CBA35E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4508E-CE02-4E9B-8F94-B2F7BE7D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BA5A-EC9D-4820-B214-5093D2C1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F4A5-1C5C-435D-B49B-FDD00E7C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0651-2599-4904-9230-C2E9826B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C097-EFDB-4B33-84B7-C927541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158D-AAA6-47DD-A16D-D74A2BC3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C594B-FCFB-416B-9C8F-37525C4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899B9-EBEC-405F-B2D8-DF1DA20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7D8F-8E62-4681-9338-01742F4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62A-0D4E-408E-B816-822D30A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E7E0-939B-43C9-945A-C670CB4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210E-870C-4C4A-9C20-2E11BBE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0921-105D-4432-B00D-8DD7653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15D5-1BB1-4B1B-BA20-4203198A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1E9B8-49A1-4CDB-B76A-B1BFFABC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B6E3-67FA-49C3-962E-FB3E3AE4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79E9-7A0D-4956-A6EC-F1E0C0D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4D266-8B90-4AB2-BE26-3062286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D2C9-2DAE-4655-8674-BD094C81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8E98-1688-4427-A548-BBB9F0E0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E9E-C147-49C2-AF1C-A8EA51F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BB65-BD9A-48DA-841A-09D82EC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BD2B5-2B3B-4DDA-A562-20A0D9C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B525-AAE7-444F-9965-82EF17C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CD93A-0AE9-410E-8346-DD17E68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A3D5-D4B1-47CC-B507-FBB5969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DBE94-097A-4E00-A9F8-C453E64F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46F5-8ECE-4652-A334-A21F5C65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DA01F-D8CB-4FAE-8931-6F29A97B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FD268-5A53-43CE-ADDA-BC6B9BCD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D997-D621-4C57-BEF1-B600806E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4CC3-EC6A-4AEE-9EBB-5387C0133B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A87-F7BE-4C1E-BEB3-4D11EB6CFE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C3A-9171-4686-B329-751444CC4A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988-F2B8-498A-B35C-850ECED18BA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030-11D4-4A76-9298-0D794BA83F8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247-3905-406A-82C4-B289865FDAE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D0BF-7552-4322-BE4E-DC4BED3E4C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93E-D5F6-48FD-BFB3-73614CDE11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6618-A837-4B25-A157-24296617AE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2EB-7DC3-4E48-8566-D3C9E34E24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5E4-01F3-497C-B3FA-D036E3BDC2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Zakon po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pomaknuti teški kamen vlastitom mišićnom si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vadi čavao zabijen u das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radi klacka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809880" cy="297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poluga mmx"/>
          <p:cNvPicPr/>
          <p:nvPr/>
        </p:nvPicPr>
        <p:blipFill>
          <a:blip r:embed="rId3"/>
          <a:stretch/>
        </p:blipFill>
        <p:spPr>
          <a:xfrm>
            <a:off x="533520" y="3581280"/>
            <a:ext cx="3657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280" y="8186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Polug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1371600" y="1447920"/>
            <a:ext cx="61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vrsto tij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osloncem oko kojeg se mo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kretati zovemo polug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5"/>
          <p:cNvGrpSpPr/>
          <p:nvPr/>
        </p:nvGrpSpPr>
        <p:grpSpPr>
          <a:xfrm>
            <a:off x="2286000" y="3276720"/>
            <a:ext cx="4449600" cy="2517480"/>
            <a:chOff x="2286000" y="3276720"/>
            <a:chExt cx="4449600" cy="2517480"/>
          </a:xfrm>
        </p:grpSpPr>
        <p:pic>
          <p:nvPicPr>
            <p:cNvPr id="47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0" y="3276720"/>
              <a:ext cx="444960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6"/>
            <p:cNvSpPr/>
            <p:nvPr/>
          </p:nvSpPr>
          <p:spPr>
            <a:xfrm>
              <a:off x="3283920" y="533448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Arhimedova polu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4"/>
          <p:cNvSpPr/>
          <p:nvPr/>
        </p:nvSpPr>
        <p:spPr>
          <a:xfrm>
            <a:off x="0" y="1143000"/>
            <a:ext cx="79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avnoteži polu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438280" cy="3305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1"/>
          <p:cNvSpPr/>
          <p:nvPr/>
        </p:nvSpPr>
        <p:spPr>
          <a:xfrm>
            <a:off x="312120" y="5105520"/>
            <a:ext cx="8570520" cy="11912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luga je u ravnoteži ako su umnošci sile i njezina kr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 obje strane međusobno jedna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Slika 5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592200" y="7858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kon ravnoteže pol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838080" y="1371600"/>
                <a:ext cx="3152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TextBox 6"/>
          <p:cNvSpPr/>
          <p:nvPr/>
        </p:nvSpPr>
        <p:spPr>
          <a:xfrm>
            <a:off x="4652640" y="4038480"/>
            <a:ext cx="358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ak sile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daljenost hvatišta s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oslonca pol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301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2"/>
          <p:cNvSpPr/>
          <p:nvPr/>
        </p:nvSpPr>
        <p:spPr>
          <a:xfrm>
            <a:off x="344880" y="1523880"/>
            <a:ext cx="8344800" cy="1601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ja sjedi na klackalici 2 m udaljena od oslonca. Njezina je tež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20 N. Koliko daleko od središta klackalice treba sjesti Majin t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ja je težina 800 N kako bi klackalica bila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4191120" y="3276720"/>
            <a:ext cx="4419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· 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· 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·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20 N ·2 m / 80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,8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0" y="3657600"/>
            <a:ext cx="3867120" cy="2057400"/>
          </a:xfrm>
          <a:prstGeom prst="rect">
            <a:avLst/>
          </a:prstGeom>
          <a:ln w="0">
            <a:noFill/>
          </a:ln>
        </p:spPr>
      </p:pic>
      <p:pic>
        <p:nvPicPr>
          <p:cNvPr id="483" name="Slika 1" descr=""/>
          <p:cNvPicPr/>
          <p:nvPr/>
        </p:nvPicPr>
        <p:blipFill>
          <a:blip r:embed="rId2"/>
          <a:stretch/>
        </p:blipFill>
        <p:spPr>
          <a:xfrm>
            <a:off x="304920" y="10746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3"/>
          <p:cNvSpPr/>
          <p:nvPr/>
        </p:nvSpPr>
        <p:spPr>
          <a:xfrm>
            <a:off x="-97920" y="1676520"/>
            <a:ext cx="92577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polug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poluga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 li poluga u ravnoteži ako 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600 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2 m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40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 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djeluju sile na dvostranoj polu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ji alati i uređaji iz svakodnevnog života djeluju kao dvostra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polu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6.   Kako djeluju sile na jednostranoj polu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7.   Nabroji alate I uređaje koji rade na načelu jednostrane polu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51Z</dcterms:modified>
  <cp:revision>50</cp:revision>
  <dc:subject/>
  <dc:title>Slide 1</dc:title>
</cp:coreProperties>
</file>